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88DB-AF5A-47EC-9AA3-5FA19F507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49A49-AE1E-4C87-BD80-33F8A0CA0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380A-32ED-4C8F-9BBA-461E96C43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BB27-CD6A-40C3-A1D9-EBD70F32C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A9F8-5CA7-435A-920D-080EBB0C1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966F-CD52-4BBC-AB94-38243B93F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5324-D2A9-448C-8805-567571AD7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3B6-98F7-4D00-BC42-F088B609F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06D2-7CF4-41D1-8C44-9B12E3FE7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CB56-823A-4E3E-943D-C7DBA0A58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BE0C-B2BC-4448-87AA-9A2DA3777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C5EC-F8CD-4D42-9205-1C9363964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560" y="624852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SUNG Confidential Proprieta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7C0BD5-F31D-4E04-85D0-3A395F1F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172200"/>
            <a:ext cx="88394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457200"/>
            <a:ext cx="8763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579760" y="3094200"/>
            <a:ext cx="3984480" cy="671400"/>
            <a:chOff x="2579760" y="3094200"/>
            <a:chExt cx="3984480" cy="671400"/>
          </a:xfrm>
        </p:grpSpPr>
        <p:sp>
          <p:nvSpPr>
            <p:cNvPr id="7" name=""/>
            <p:cNvSpPr/>
            <p:nvPr/>
          </p:nvSpPr>
          <p:spPr>
            <a:xfrm>
              <a:off x="2579760" y="3094200"/>
              <a:ext cx="3984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79760" y="3094200"/>
              <a:ext cx="39844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85858"/>
                  </a:solidFill>
                  <a:latin typeface="굴림"/>
                </a:rPr>
                <a:t>  </a:t>
              </a:r>
              <a:r>
                <a:rPr b="0" lang="en-US" sz="3800" spc="-1" strike="noStrike">
                  <a:solidFill>
                    <a:srgbClr val="585858"/>
                  </a:solidFill>
                  <a:latin typeface="굴림"/>
                </a:rPr>
                <a:t> </a:t>
              </a:r>
              <a:r>
                <a:rPr b="0" lang="en-US" sz="900" spc="-1" strike="noStrike">
                  <a:solidFill>
                    <a:srgbClr val="585858"/>
                  </a:solidFill>
                  <a:latin typeface="굴림"/>
                </a:rPr>
                <a:t>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24240" cy="4176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228600" y="6343560"/>
            <a:ext cx="129528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808000"/>
                </a:solidFill>
                <a:latin typeface="Verdana"/>
                <a:ea typeface="견고딕"/>
              </a:rPr>
              <a:t>L700 Download User Guide</a:t>
            </a:r>
            <a:br>
              <a:rPr sz="3600"/>
            </a:br>
            <a:r>
              <a:rPr b="1" lang="ko-KR" sz="3600" spc="-1" strike="noStrike">
                <a:solidFill>
                  <a:srgbClr val="808000"/>
                </a:solidFill>
                <a:latin typeface="Verdana"/>
                <a:ea typeface="견고딕"/>
              </a:rPr>
              <a:t>(</a:t>
            </a:r>
            <a:r>
              <a:rPr b="1" lang="sv-SE" sz="3600" spc="-1" strike="noStrike">
                <a:solidFill>
                  <a:srgbClr val="808000"/>
                </a:solidFill>
                <a:latin typeface="Verdana"/>
                <a:ea typeface="견고딕"/>
              </a:rPr>
              <a:t>Flash loader v0.x Lite 7.0.2</a:t>
            </a:r>
            <a:r>
              <a:rPr b="1" lang="ko-KR" sz="3600" spc="-1" strike="noStrike">
                <a:solidFill>
                  <a:srgbClr val="808000"/>
                </a:solidFill>
                <a:latin typeface="Verdana"/>
                <a:ea typeface="견고딕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HY헤드라인M"/>
                <a:ea typeface="HY헤드라인M"/>
              </a:rPr>
              <a:t>Jul. 2008 Suwon,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HY헤드라인M"/>
                <a:ea typeface="HY헤드라인M"/>
              </a:rPr>
              <a:t>S/W Platform2 Group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HY헤드라인M"/>
                <a:ea typeface="HY헤드라인M"/>
              </a:rPr>
              <a:t>Mobile Communication Div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HY헤드라인M"/>
                <a:ea typeface="HY헤드라인M"/>
              </a:rPr>
              <a:t>SAMSUNG Electronics Co.. Lt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age of Downloader-3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447560"/>
            <a:ext cx="4392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How to start downloa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. Enter the number of Device in small red box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. Press START button. Then, the text will change from “START” to “STOP”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3. During you press keys(#+send-key, *+on-key), try to download by plugging in usb cab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24400" y="1557360"/>
            <a:ext cx="4643280" cy="3672000"/>
            <a:chOff x="4424400" y="1557360"/>
            <a:chExt cx="4643280" cy="367200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424400" y="1557360"/>
              <a:ext cx="464328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348960" y="3734640"/>
              <a:ext cx="326520" cy="175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3077640"/>
              <a:ext cx="782640" cy="262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84360" y="2492280"/>
            <a:ext cx="41990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tting up configuration for L700 Download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ow to install the USB driv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ow to uninstall USB driv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Usage of Download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lection Bina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hecking main optio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44877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ow to install USB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B Driver\USBREGDRV-1.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ting up configuration(Install-1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8244000" y="5445000"/>
            <a:ext cx="576000" cy="432000"/>
          </a:xfrm>
          <a:prstGeom prst="down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33360" y="1657440"/>
            <a:ext cx="8569080" cy="4463640"/>
            <a:chOff x="333360" y="1657440"/>
            <a:chExt cx="8569080" cy="446364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054480" y="1657440"/>
              <a:ext cx="284796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725720" y="1944720"/>
              <a:ext cx="1295640" cy="431280"/>
            </a:xfrm>
            <a:prstGeom prst="rightArrowCallout">
              <a:avLst>
                <a:gd name="adj1" fmla="val 25002"/>
                <a:gd name="adj2" fmla="val 25000"/>
                <a:gd name="adj3" fmla="val 50070"/>
                <a:gd name="adj4" fmla="val 66667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Doubl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433920" y="4149720"/>
              <a:ext cx="239544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534080" y="3241440"/>
              <a:ext cx="216000" cy="647280"/>
            </a:xfrm>
            <a:prstGeom prst="downArrow">
              <a:avLst>
                <a:gd name="adj1" fmla="val 41176"/>
                <a:gd name="adj2" fmla="val 154772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5985360" y="4824720"/>
              <a:ext cx="215640" cy="433440"/>
            </a:xfrm>
            <a:prstGeom prst="downArrow">
              <a:avLst>
                <a:gd name="adj1" fmla="val 41176"/>
                <a:gd name="adj2" fmla="val 10381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429000" y="4167000"/>
              <a:ext cx="237636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333360" y="4154400"/>
              <a:ext cx="2374920" cy="19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5400000">
              <a:off x="2961360" y="4802400"/>
              <a:ext cx="215640" cy="433440"/>
            </a:xfrm>
            <a:prstGeom prst="downArrow">
              <a:avLst>
                <a:gd name="adj1" fmla="val 41176"/>
                <a:gd name="adj2" fmla="val 10381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29000" y="5473440"/>
              <a:ext cx="576360" cy="431640"/>
            </a:xfrm>
            <a:prstGeom prst="downArrowCallout">
              <a:avLst>
                <a:gd name="adj1" fmla="val 33385"/>
                <a:gd name="adj2" fmla="val 33382"/>
                <a:gd name="adj3" fmla="val 16667"/>
                <a:gd name="adj4" fmla="val 66667"/>
              </a:avLst>
            </a:prstGeom>
            <a:solidFill>
              <a:srgbClr val="cc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360" y="5473440"/>
              <a:ext cx="576360" cy="431640"/>
            </a:xfrm>
            <a:prstGeom prst="downArrowCallout">
              <a:avLst>
                <a:gd name="adj1" fmla="val 33385"/>
                <a:gd name="adj2" fmla="val 33382"/>
                <a:gd name="adj3" fmla="val 16667"/>
                <a:gd name="adj4" fmla="val 66667"/>
              </a:avLst>
            </a:prstGeom>
            <a:solidFill>
              <a:srgbClr val="cc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2277720" y="2162160"/>
              <a:ext cx="2303640" cy="18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14038200">
              <a:off x="1521360" y="3492360"/>
              <a:ext cx="215640" cy="433440"/>
            </a:xfrm>
            <a:prstGeom prst="downArrow">
              <a:avLst>
                <a:gd name="adj1" fmla="val 41176"/>
                <a:gd name="adj2" fmla="val 10381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05000" y="3386160"/>
              <a:ext cx="576360" cy="431280"/>
            </a:xfrm>
            <a:prstGeom prst="downArrowCallout">
              <a:avLst>
                <a:gd name="adj1" fmla="val 33413"/>
                <a:gd name="adj2" fmla="val 33410"/>
                <a:gd name="adj3" fmla="val 16667"/>
                <a:gd name="adj4" fmla="val 66667"/>
              </a:avLst>
            </a:prstGeom>
            <a:solidFill>
              <a:srgbClr val="cc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ting up configuration(Install-2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B Driver\UPCDRIV-1.10.LMSQB10495_LMSQB15682\USB driver MCCI 4_38_9_33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26920" y="2152800"/>
            <a:ext cx="7632720" cy="3960720"/>
            <a:chOff x="826920" y="2152800"/>
            <a:chExt cx="7632720" cy="39607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826920" y="2152800"/>
              <a:ext cx="3000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19280" y="2657520"/>
              <a:ext cx="1328760" cy="432000"/>
            </a:xfrm>
            <a:prstGeom prst="leftArrowCallout">
              <a:avLst>
                <a:gd name="adj1" fmla="val 25002"/>
                <a:gd name="adj2" fmla="val 25000"/>
                <a:gd name="adj3" fmla="val 51264"/>
                <a:gd name="adj4" fmla="val 66673"/>
              </a:avLst>
            </a:prstGeom>
            <a:solidFill>
              <a:srgbClr val="ccff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Doubl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4248720" y="2475720"/>
              <a:ext cx="216000" cy="433080"/>
            </a:xfrm>
            <a:prstGeom prst="downArrow">
              <a:avLst>
                <a:gd name="adj1" fmla="val 41176"/>
                <a:gd name="adj2" fmla="val 10355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859280" y="2152800"/>
              <a:ext cx="360036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1220760" y="4600800"/>
              <a:ext cx="49528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1840200">
              <a:off x="5579640" y="3881160"/>
              <a:ext cx="216000" cy="433440"/>
            </a:xfrm>
            <a:prstGeom prst="downArrow">
              <a:avLst>
                <a:gd name="adj1" fmla="val 41176"/>
                <a:gd name="adj2" fmla="val 10364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19640" y="5681880"/>
              <a:ext cx="576000" cy="431640"/>
            </a:xfrm>
            <a:prstGeom prst="upArrowCallout">
              <a:avLst>
                <a:gd name="adj1" fmla="val 33364"/>
                <a:gd name="adj2" fmla="val 33361"/>
                <a:gd name="adj3" fmla="val 16667"/>
                <a:gd name="adj4" fmla="val 6666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20000" y="3521160"/>
              <a:ext cx="576360" cy="431640"/>
            </a:xfrm>
            <a:prstGeom prst="upArrowCallout">
              <a:avLst>
                <a:gd name="adj1" fmla="val 33385"/>
                <a:gd name="adj2" fmla="val 33382"/>
                <a:gd name="adj3" fmla="val 16667"/>
                <a:gd name="adj4" fmla="val 6666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굴림"/>
                </a:rPr>
                <a:t>Clic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ting up configuration(Install-3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How to install DFU 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-406440">
              <a:spcBef>
                <a:spcPts val="400"/>
              </a:spcBef>
              <a:buClr>
                <a:srgbClr val="000000"/>
              </a:buClr>
              <a:buFont typeface="굴림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voke the Device Manager (Right-click My Computer then select Propertie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-406440">
              <a:spcBef>
                <a:spcPts val="400"/>
              </a:spcBef>
              <a:buClr>
                <a:srgbClr val="000000"/>
              </a:buClr>
              <a:buFont typeface="굴림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ress “*-key + send-key” or “#-key + on-key”, then connect your phone with the usb cable (example : Y-cable)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-406440">
              <a:spcBef>
                <a:spcPts val="400"/>
              </a:spcBef>
              <a:buClr>
                <a:srgbClr val="000000"/>
              </a:buClr>
              <a:buFont typeface="굴림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You can see new device, “USB Device with DFU Capabilities”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-406440">
              <a:spcBef>
                <a:spcPts val="400"/>
              </a:spcBef>
              <a:buClr>
                <a:srgbClr val="000000"/>
              </a:buClr>
              <a:buFont typeface="굴림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Right-click this device then click Driver Updat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-406440">
              <a:spcBef>
                <a:spcPts val="400"/>
              </a:spcBef>
              <a:buClr>
                <a:srgbClr val="000000"/>
              </a:buClr>
              <a:buFont typeface="굴림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You have to select the file like “</a:t>
            </a:r>
            <a:r>
              <a:rPr b="0" lang="sv-SE" sz="1600" spc="-1" strike="noStrike">
                <a:solidFill>
                  <a:srgbClr val="000000"/>
                </a:solidFill>
                <a:latin typeface="굴림"/>
              </a:rPr>
              <a:t>Flash loader v0.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x </a:t>
            </a:r>
            <a:r>
              <a:rPr b="0" lang="sv-SE" sz="1600" spc="-1" strike="noStrike">
                <a:solidFill>
                  <a:srgbClr val="000000"/>
                </a:solidFill>
                <a:latin typeface="굴림"/>
              </a:rPr>
              <a:t>Lite 7.0.2\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52xdfu.sys” or folder like “</a:t>
            </a:r>
            <a:r>
              <a:rPr b="0" lang="sv-SE" sz="1600" spc="-1" strike="noStrike">
                <a:solidFill>
                  <a:srgbClr val="000000"/>
                </a:solidFill>
                <a:latin typeface="굴림"/>
              </a:rPr>
              <a:t>Flash loader v0.3 Lite 7.0.2\” in the location of input bo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f you finished all usb driver installing, reboot computer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2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ting up configuration(Uninstall-1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468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ow to uninstall USB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B Driver\USBREGDRV-1.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07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45120" y="1628640"/>
            <a:ext cx="2847960" cy="119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1916280"/>
            <a:ext cx="1295640" cy="431640"/>
          </a:xfrm>
          <a:prstGeom prst="rightArrowCallout">
            <a:avLst>
              <a:gd name="adj1" fmla="val 25002"/>
              <a:gd name="adj2" fmla="val 25000"/>
              <a:gd name="adj3" fmla="val 50028"/>
              <a:gd name="adj4" fmla="val 6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2664000" cy="217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400000">
            <a:off x="4318560" y="4399920"/>
            <a:ext cx="215640" cy="433080"/>
          </a:xfrm>
          <a:prstGeom prst="downArrow">
            <a:avLst>
              <a:gd name="adj1" fmla="val 41176"/>
              <a:gd name="adj2" fmla="val 10372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042920" y="3500280"/>
            <a:ext cx="2665440" cy="219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806800">
            <a:off x="6912360" y="3032640"/>
            <a:ext cx="216000" cy="433440"/>
          </a:xfrm>
          <a:prstGeom prst="downArrow">
            <a:avLst>
              <a:gd name="adj1" fmla="val 41176"/>
              <a:gd name="adj2" fmla="val 10364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431040" y="4384800"/>
            <a:ext cx="1328760" cy="431640"/>
          </a:xfrm>
          <a:prstGeom prst="leftArrowCallout">
            <a:avLst>
              <a:gd name="adj1" fmla="val 25002"/>
              <a:gd name="adj2" fmla="val 25000"/>
              <a:gd name="adj3" fmla="val 51307"/>
              <a:gd name="adj4" fmla="val 66673"/>
            </a:avLst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Selec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remo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4941720"/>
            <a:ext cx="576360" cy="432000"/>
          </a:xfrm>
          <a:prstGeom prst="downArrowCallout">
            <a:avLst>
              <a:gd name="adj1" fmla="val 33357"/>
              <a:gd name="adj2" fmla="val 33354"/>
              <a:gd name="adj3" fmla="val 16667"/>
              <a:gd name="adj4" fmla="val 66667"/>
            </a:avLst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7451640" y="5661000"/>
            <a:ext cx="576360" cy="432000"/>
          </a:xfrm>
          <a:prstGeom prst="upArrowCallout">
            <a:avLst>
              <a:gd name="adj1" fmla="val 33357"/>
              <a:gd name="adj2" fmla="val 33354"/>
              <a:gd name="adj3" fmla="val 16667"/>
              <a:gd name="adj4" fmla="val 6666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tting up configuration(Uninstall-2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USB Driver\UPCDRIV-1.10.LMSQB10495_LMSQB15682\USB driver MCCI 4_38_9_33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07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0006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68560" y="2257560"/>
            <a:ext cx="1328760" cy="431640"/>
          </a:xfrm>
          <a:prstGeom prst="leftArrowCallout">
            <a:avLst>
              <a:gd name="adj1" fmla="val 25002"/>
              <a:gd name="adj2" fmla="val 25000"/>
              <a:gd name="adj3" fmla="val 51307"/>
              <a:gd name="adj4" fmla="val 66673"/>
            </a:avLst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248720" y="2383560"/>
            <a:ext cx="216000" cy="433080"/>
          </a:xfrm>
          <a:prstGeom prst="downArrow">
            <a:avLst>
              <a:gd name="adj1" fmla="val 41176"/>
              <a:gd name="adj2" fmla="val 10355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 rot="1840200">
            <a:off x="5579640" y="3284280"/>
            <a:ext cx="216000" cy="433440"/>
          </a:xfrm>
          <a:prstGeom prst="downArrow">
            <a:avLst>
              <a:gd name="adj1" fmla="val 41176"/>
              <a:gd name="adj2" fmla="val 10364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343320" cy="11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16080" y="3789360"/>
            <a:ext cx="4962600" cy="1152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9640" y="4870440"/>
            <a:ext cx="576000" cy="431640"/>
          </a:xfrm>
          <a:prstGeom prst="upArrowCallout">
            <a:avLst>
              <a:gd name="adj1" fmla="val 33364"/>
              <a:gd name="adj2" fmla="val 33361"/>
              <a:gd name="adj3" fmla="val 16667"/>
              <a:gd name="adj4" fmla="val 6666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39760" y="5300640"/>
            <a:ext cx="86868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07960" indent="-50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n, reboot your comput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626160" y="2978280"/>
            <a:ext cx="576360" cy="431640"/>
          </a:xfrm>
          <a:prstGeom prst="upArrowCallout">
            <a:avLst>
              <a:gd name="adj1" fmla="val 33385"/>
              <a:gd name="adj2" fmla="val 33382"/>
              <a:gd name="adj3" fmla="val 16667"/>
              <a:gd name="adj4" fmla="val 6666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age of Downloader-1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-50796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election Bina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6553440" cy="404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13080" y="2843280"/>
            <a:ext cx="863640" cy="288720"/>
          </a:xfrm>
          <a:prstGeom prst="rightArrowCallout">
            <a:avLst>
              <a:gd name="adj1" fmla="val 25002"/>
              <a:gd name="adj2" fmla="val 25000"/>
              <a:gd name="adj3" fmla="val 49855"/>
              <a:gd name="adj4" fmla="val 6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5622840" y="5229360"/>
            <a:ext cx="576360" cy="431640"/>
          </a:xfrm>
          <a:prstGeom prst="upArrowCallout">
            <a:avLst>
              <a:gd name="adj1" fmla="val 33385"/>
              <a:gd name="adj2" fmla="val 33382"/>
              <a:gd name="adj3" fmla="val 16667"/>
              <a:gd name="adj4" fmla="val 66660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Cli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age of Downloader-2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447560"/>
            <a:ext cx="4392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hecking main op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1. NAND_FLASH as Locati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2. Essential options for downloading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rase, Exec, Write, Verif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3. You must always select “Application size” as Erase Opti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27640" y="1844640"/>
            <a:ext cx="4633920" cy="3960720"/>
            <a:chOff x="4427640" y="1844640"/>
            <a:chExt cx="4633920" cy="396072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427640" y="1844640"/>
              <a:ext cx="46339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576120" y="2504880"/>
              <a:ext cx="773280" cy="208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15720" y="2262240"/>
              <a:ext cx="1352520" cy="277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84080" y="2652480"/>
              <a:ext cx="773280" cy="20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06:02:47Z</dcterms:created>
  <dc:creator>guddus</dc:creator>
  <dc:description/>
  <dc:language>en-US</dc:language>
  <cp:lastModifiedBy>guddus</cp:lastModifiedBy>
  <dcterms:modified xsi:type="dcterms:W3CDTF">2008-07-09T11:31:04Z</dcterms:modified>
  <cp:revision>13</cp:revision>
  <dc:subject/>
  <dc:title>L700 Download User GUIDE (Flash loader v0.3 Lite 7.0.2)</dc:title>
</cp:coreProperties>
</file>